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891-C9A9-4BFC-BC54-634959BE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69F-4D81-4143-8EDC-C697342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3B5-008E-46A0-A6D3-14C686A8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49C-FAB3-4670-A943-23D7048F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A3E-59F2-45EA-87C5-7814B214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CEA-306D-4E20-95ED-266E78F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3C5-7268-470A-AA2D-38A86B4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656-FEA1-4EBB-894C-1B71D1C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125-D9A6-4DB4-8833-FB78E7DC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6D3-4236-4769-A975-6B0B7E4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7C3-C1BD-428C-8AEC-FB450D2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2DA-B4BA-4FFB-A546-A4339EC2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B96-0F2C-4C9F-AC6F-A88F621B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Arial"/>
              </a:rPr>
              <a:t>ДИКИЕ ЖИВОТ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5 из 45240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ЕЛ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0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189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4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3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34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31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39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592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ЛИСИ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6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26028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ЙЧ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6360" y="47628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22:23Z</dcterms:created>
  <dc:creator>студент</dc:creator>
  <dc:description/>
  <dc:language>en-US</dc:language>
  <cp:lastModifiedBy>студент</cp:lastModifiedBy>
  <dcterms:modified xsi:type="dcterms:W3CDTF">2012-04-17T06:54:57Z</dcterms:modified>
  <cp:revision>2</cp:revision>
  <dc:subject/>
  <dc:title>ДИКИЕ ЖИВОТНЫЕ</dc:title>
</cp:coreProperties>
</file>